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01F-B286-4862-A399-22F5335A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F81-FFCE-468C-80AA-4ED241E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4E5-5929-4450-AAC8-6B86626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234-070D-4E71-99E1-6863978C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CF1E-5D32-4322-AE98-D9B49317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E3FF-8CF6-4E9C-9214-81D0E729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D693-C038-44C6-A6AF-6E0EC81E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A2DB-9944-49D3-B1F8-C5C27731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866D-CAF8-4C5E-8EBD-07D06B36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500-295E-4712-B0F5-1B7CBB67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6AC-61C9-4BDD-B717-6479E2C7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2A1B-F545-45C9-8BDF-F575A23B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03D5-4355-46B1-A60A-AA237FAB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5787-7DD2-41B3-8C78-14F766F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A779-462B-412F-BDC8-0EC67B87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EC5-2E99-4304-B591-91FCCBAC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3F1-2BE6-46DB-B11F-C70971E3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0BF-5E05-4453-BE90-F89C0B9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F38-53C3-4727-B711-E5CFCF1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E85-0DD7-4158-A2B4-720AABF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B24-5BF5-4FF1-BF36-FE8D26D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6FB-8B5E-4A2A-AB59-A355038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3F8-33EA-447E-A93B-385B6DD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723-9E3E-42BB-BCAE-47865D0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157-0DCA-4AD7-B88E-DF91780FADE0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EAEE-9562-417A-A563-F718A766DAFA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ork, Energy and Pow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inetic Ener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Kinetic energy is the energy of motion. An object which has motion - whether it be vertical or horizontal motion - has kinetic energ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re are many forms of kinetic energy - vibratory (the energy due to vibratory motion), rotational (the energy due to rotational motion), and translational (the energy due to motion from one location to another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The amount of translational kinetic energy (from here on, the phrase kinetic energy will refer to translational kinetic energy) which an object has depends upon two variable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the mass (m) of the object and the speed (v) of the objec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inued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e following equation is used to represent the kinetic energy (E</a:t>
            </a:r>
            <a:r>
              <a:rPr b="0" lang="en-CA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) of an objec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en-CA" sz="2800" spc="-1" strike="noStrike" baseline="-25000">
                <a:solidFill>
                  <a:srgbClr val="ffffcc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=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½ m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 = ma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 = veloc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This equation reveals that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of an object is directly proportional to the square of its speed. That means that if speed doubles, th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 will increase by a factor of fo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E continu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Kinetic energy is a sc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 quantity;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 it does not have a direction. Unlike veloci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, acceleration, force, and momentum, the kinetic energy of an object is completely described by magnitude alon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Like work and potential energy, the standard metric units of measurement for kinetic energy is the Joule</a:t>
            </a:r>
            <a:r>
              <a:rPr b="0" lang="en-CA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Determine the kinetic energy of a 1000-kg roller coaster car that is moving with a speed of 20.0 m/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½ (1000kg)(20.0m/s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200 000 Joul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2.00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oules or 200 k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If the roller coaster car in the above problem were moving with twice the speed, then what would be its new kinetic energ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½ (1000kg)(40.0m/s)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800 000 Jou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8.00 x 1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oules or 800 k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</a:rPr>
              <a:t>Missy Diwater, the former platform diver for the Ringling Brother's Circus had a kinetic energy of 15kJ just prior to hitting the bucket of water. If Missy's mass is 50 kg, then what is her spe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½ m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5 000 J = ½ (50kg)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(15000) = 50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3000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0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 =24.5m/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ulate the velocity of a fist with a mass of 750g while being slammed into a board with a force of 50 N over a distance of 35 cm.(watch out for units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W = ½ m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 = F d = ½ (0.75kg)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0 N x 0.35 m = ½ (0.75kg)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7. 5/ 0.375 = v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CA" sz="3200" spc="-1" strike="noStrike">
                <a:solidFill>
                  <a:srgbClr val="ffffcc"/>
                </a:solidFill>
                <a:latin typeface="Times New Roman"/>
              </a:rPr>
              <a:t>6.83 m/s = 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1T00:50:02Z</dcterms:created>
  <dc:creator>Chantal Burns</dc:creator>
  <dc:description/>
  <dc:language>en-US</dc:language>
  <cp:lastModifiedBy>nbdoe</cp:lastModifiedBy>
  <dcterms:modified xsi:type="dcterms:W3CDTF">2009-04-16T12:21:33Z</dcterms:modified>
  <cp:revision>7</cp:revision>
  <dc:subject/>
  <dc:title>Work, Energy and Power</dc:title>
</cp:coreProperties>
</file>